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6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97C-5F13-4CB0-B787-0F33E25F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152-D6B9-4713-B52D-D0B14929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136-D6BF-4E55-B918-14F1B8E5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141-9268-453C-A94C-DD9E78CA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BCE-797B-493A-996E-67D4D34F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90CB-7F50-4E15-B4A7-B9889188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E6A-D70B-4D44-B730-C9A11F3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FBA-BF5C-418A-8CB8-834E5FE6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5D1-4FF3-4977-8114-41C8C37F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CEC-9DCB-41EC-9C48-7F77B83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333-B9EE-4F6F-8F18-258423F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05B-FB4B-4267-9D22-FDBE0C5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B34-D5E6-4B6B-A03E-3AE2B60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6F57-11F0-409E-A781-C445E11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AEE-30C5-483A-A417-5293616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902-2835-4C51-888A-DE9D990E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859-9373-4172-A929-6343A27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4F3-3172-4F4E-A007-EBEF9EA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B40-3E7B-4BAC-BF5B-31DE6489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D43-7616-41F5-8C61-76596C8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509-2FD3-4472-B01C-42F59EBE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99B-08F3-4C60-87B2-5955708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7FB-8986-41FF-884A-84EA8E6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B9B-CF18-4D98-A73D-F665BE6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DA35-EAD5-40B8-B1DB-17812BA4316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319F-24C3-410E-B9CA-BE28875BC996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newsimg.bbc.co.uk/media/images/41182000/jpg/_41182578_sharesdown203.jpg&amp;imgrefurl=http://news.bbc.co.uk/1/hi/programmes/working_lunch/&amp;h=152&amp;w=203&amp;sz=17&amp;tbnid=TkV3xPk9ZtWlaM:&amp;tbnh=74&amp;tbnw=99&amp;hl=en&amp;start=8&amp;prev=/images%3Fq%3Dgraph%2Bcartoon%26svnum%3D10%26hl%3Den%26lr%3D%26safe%3Doff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Predicting Olympic Performance for Beijing 2008: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A creative tool for Future Policy Decisions</a:t>
            </a:r>
            <a:endParaRPr b="0" lang="en-US" sz="2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2120" y="4495680"/>
            <a:ext cx="678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Ignacio Alegria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Diego Castillo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Maria C. Helo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Juan Carlos Mealla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333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hina, Germany, Russia, and the USA: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Best Distribution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561" t="8573" r="7812" b="2916"/>
          <a:stretch/>
        </p:blipFill>
        <p:spPr>
          <a:xfrm>
            <a:off x="685800" y="1819440"/>
            <a:ext cx="3581280" cy="1914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1452" t="7947" r="5799" b="4631"/>
          <a:stretch/>
        </p:blipFill>
        <p:spPr>
          <a:xfrm>
            <a:off x="4800600" y="1828800"/>
            <a:ext cx="3657600" cy="1886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1452" t="7947" r="7244" b="4631"/>
          <a:stretch/>
        </p:blipFill>
        <p:spPr>
          <a:xfrm>
            <a:off x="685800" y="4191120"/>
            <a:ext cx="3581280" cy="187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0" t="7947" r="4348" b="4631"/>
          <a:stretch/>
        </p:blipFill>
        <p:spPr>
          <a:xfrm>
            <a:off x="4800600" y="4191120"/>
            <a:ext cx="365760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13160" y="15238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8862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523880"/>
            <a:ext cx="12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8620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Simulation Model to Forecast Olympic Performance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873080"/>
            <a:ext cx="8153280" cy="1632240"/>
          </a:xfrm>
          <a:prstGeom prst="rect">
            <a:avLst/>
          </a:prstGeom>
          <a:ln w="0">
            <a:noFill/>
          </a:ln>
        </p:spPr>
      </p:pic>
      <p:cxnSp>
        <p:nvCxnSpPr>
          <p:cNvPr id="204" name=""/>
          <p:cNvCxnSpPr/>
          <p:nvPr/>
        </p:nvCxnSpPr>
        <p:spPr>
          <a:xfrm flipH="1" flipV="1" rot="5400000">
            <a:off x="4678200" y="1036080"/>
            <a:ext cx="816840" cy="4077360"/>
          </a:xfrm>
          <a:prstGeom prst="curvedConnector5">
            <a:avLst>
              <a:gd name="adj1" fmla="val -62433"/>
              <a:gd name="adj2" fmla="val 55973"/>
              <a:gd name="adj3" fmla="val -62433"/>
            </a:avLst>
          </a:prstGeom>
          <a:ln w="38160">
            <a:solidFill>
              <a:srgbClr val="ff0000"/>
            </a:solidFill>
            <a:miter/>
            <a:headEnd len="med" type="triangle" w="lg"/>
            <a:tailEnd len="med" type="oval" w="lg"/>
          </a:ln>
        </p:spPr>
      </p:cxn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40381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Assumptions</a:t>
            </a: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Population growth follows a uniform distribution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Population as of 2008 is determined using this random generated growth based on 2004 figures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1" marL="69084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Forecast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% Medals 2008 using historical regression model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Iterations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1000 iterations used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Simulation Result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581280" cy="223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3581280" cy="222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504960" cy="2176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581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Simulation Statistic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86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0880" y="1905120"/>
            <a:ext cx="304920" cy="304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Result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480" y="3122640"/>
            <a:ext cx="1295640" cy="763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9480" y="2079720"/>
            <a:ext cx="1295640" cy="73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09480" y="4135320"/>
            <a:ext cx="1295640" cy="817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295640" cy="7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2133720" y="1523880"/>
          <a:ext cx="6400800" cy="45716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45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Sydney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10.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9.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Athens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10.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9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5.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Beijing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(predic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8.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7.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7.5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4.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Host Country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707760" y="6019920"/>
            <a:ext cx="504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http://www.mapsofworld.com/images/world-olympic-hostnations-map.gif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2" name="" descr="World Map Of Olympic host cities"/>
          <p:cNvPicPr/>
          <p:nvPr/>
        </p:nvPicPr>
        <p:blipFill>
          <a:blip r:embed="rId1"/>
          <a:srcRect l="1919" t="0" r="1915" b="9479"/>
          <a:stretch/>
        </p:blipFill>
        <p:spPr>
          <a:xfrm>
            <a:off x="685800" y="1371600"/>
            <a:ext cx="7848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Agenda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4343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troduction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rmulation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e Mod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onclusions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Q &amp; A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Introduc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lympic Performance – Not Random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Olympic performance is not random – certain controllable variables directly influence performance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Purpose of Predicting Performance – Better Decision-Making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Accurately predicting performance is not an end in itself – the genuine objective is to discover which controllable variables have a meaningful impact on performance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lympic Performance is not a zero-sum gam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Greater dispersion of medals across countries would further the Olympic movement: contribute to building a peaceful and better world with a spirit of friendship, solidarity, and fair play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Formula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ur Model Follows Similar Studi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In formulating our model, we reviewed a number of studies that attempt to predict performance based, fundamentally, on economic data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Bias in our Model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In creating our model we had a bias given the studies that we have reviewed, and given our intuition behind the variable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Constraint – Model with Statistical Significan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Our constraint, however, was creating a model with statistical significance, even if that would imply eliminating variables that intuitively seemed crucia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952880" y="1957320"/>
            <a:ext cx="1371600" cy="55728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ANALYSI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933640"/>
            <a:ext cx="1371600" cy="49536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VARIABL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676840"/>
            <a:ext cx="1486080" cy="49536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AL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886200"/>
            <a:ext cx="1981080" cy="1238400"/>
          </a:xfrm>
          <a:prstGeom prst="flowChartDecision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SIMULATION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447920"/>
            <a:ext cx="0" cy="5331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514600"/>
            <a:ext cx="0" cy="3999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105520"/>
            <a:ext cx="0" cy="6094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57200"/>
            <a:ext cx="2057400" cy="990720"/>
          </a:xfrm>
          <a:prstGeom prst="flowChartDecision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209680"/>
            <a:ext cx="838440" cy="180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1924200"/>
            <a:ext cx="1143000" cy="74268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D VARIABLES      (F and p values)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324120" y="1980720"/>
            <a:ext cx="838440" cy="180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81320"/>
            <a:ext cx="914400" cy="24768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3205080"/>
            <a:ext cx="1295640" cy="681120"/>
          </a:xfrm>
          <a:prstGeom prst="flowChartTerminator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 GROWTH FORECAS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24120" y="3943440"/>
            <a:ext cx="1143000" cy="32364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8080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The Model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Variables Databas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itial Variables vs Regression Variables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2133720"/>
          <a:ext cx="7315200" cy="373356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7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Host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7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Mome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North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atin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Host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7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Mome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 2" charset="2"/>
                        <a:buChar char="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og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 2" charset="2"/>
                        <a:buChar char="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North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atin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hat the Regression Told Us:</a:t>
            </a:r>
            <a:br>
              <a:rPr sz="3600"/>
            </a:b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24600" cy="2975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2667240" cy="1211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66724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0" y="4952880"/>
            <a:ext cx="990720" cy="1371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3276720"/>
            <a:ext cx="1143000" cy="1066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1143000"/>
            <a:ext cx="2971800" cy="3124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904760"/>
            <a:ext cx="2438280" cy="1523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29200" y="3276720"/>
            <a:ext cx="228600" cy="16761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Forecast Model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1219320"/>
                <a:ext cx="7848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ost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LogPop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*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al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ost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LogPo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1</m:t>
                        </m:r>
                        <m:r>
                          <m:rPr>
                            <m:lit/>
                            <m:nor/>
                          </m:rPr>
                          <m:t xml:space="preserve">*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al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rPr>
                            <m:lit/>
                            <m:nor/>
                          </m:rPr>
                          <m:t xml:space="preserve">ate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 order to predict Olympic performance we need to determine the corresponding variables as of 200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2819160" y="2819160"/>
            <a:ext cx="3352680" cy="3045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8128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MOMENTU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26708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G7 &amp; 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87692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56272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581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% Medals Athens 200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159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nchanged – same classification used in regress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952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555"/>
                </a:solidFill>
                <a:latin typeface="Century Gothic"/>
              </a:rPr>
              <a:t>Uncerta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Popula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Predicting 2008 Population for China, Russia, Germany, and the USA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1104840" cy="106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95480" y="25909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1218960" cy="88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943600" y="25909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2286000"/>
            <a:ext cx="943200" cy="704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480" y="365760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We collected historical information (1960 to 2004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We determined a probabilistic distribution that resembled the historical population growth for each country using Crystal Ball (fit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819520" y="5105520"/>
            <a:ext cx="3504960" cy="3045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715000"/>
            <a:ext cx="716292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istorical population growth for each country can be best forecasted using uniform distribu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0:25:30Z</dcterms:created>
  <dc:creator>Juan Carlos Mealla</dc:creator>
  <dc:description/>
  <cp:keywords/>
  <dc:language>en-US</dc:language>
  <cp:lastModifiedBy>Juan Carlos Mealla</cp:lastModifiedBy>
  <dcterms:modified xsi:type="dcterms:W3CDTF">2006-05-01T20:41:46Z</dcterms:modified>
  <cp:revision>22</cp:revision>
  <dc:subject/>
  <dc:title>BEIJING 2008: WHO’LL GET THE G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